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BB6-C655-43EF-9388-5618DC7D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0A3-F873-412F-87E9-4310DD9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D95-CF9D-494C-9329-6630F573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7B3-1C4F-4A27-A8F3-8662A1E2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BC2-C725-472B-B818-BC2B8B8B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462-0C49-4D7B-B8DC-780BE7B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A6E-3909-46B6-89E1-14C6BB43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8731-3002-4F0C-875A-7EBCD567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1616-A583-431F-8965-909C2489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9BE-9FAE-4E51-9F72-E8BAE8E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EE6B-8EC8-4B6E-A982-043B4A88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83B-D5E6-4041-8859-542AA64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608-C645-46A0-BD19-2915D72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7D56-094D-44B5-BB75-58A7E43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4858-091A-4370-94FB-E8178D1C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873-46BA-420F-A8B8-5ABD1049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554A-E8FB-46FC-ACC2-66B2E102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754-8002-4A32-A617-99564C43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1FB-141B-42EF-BE62-6401E37C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F0C-8931-4A19-907D-AA12E562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D0E-5CC9-45B5-A1CE-EBEB1DDE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E74-1EBF-4E9D-99B1-BB35964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01B-580B-42B9-8682-B1B92F47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43E-7190-4F2D-8639-6837803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4EFD-3CEC-4731-AF08-D8E098477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6D05-6593-488E-87CB-9BA760445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25 is ¼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5% also means 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0640" y="38862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29200" y="3352680"/>
          <a:ext cx="388152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388152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010280" y="3276720"/>
            <a:ext cx="152424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3465360" cy="3224160"/>
            <a:chOff x="685800" y="3124080"/>
            <a:chExt cx="3465360" cy="3224160"/>
          </a:xfrm>
        </p:grpSpPr>
        <p:graphicFrame>
          <p:nvGraphicFramePr>
            <p:cNvPr id="165" name=""/>
            <p:cNvGraphicFramePr/>
            <p:nvPr/>
          </p:nvGraphicFramePr>
          <p:xfrm>
            <a:off x="762120" y="3124080"/>
            <a:ext cx="1407960" cy="13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1240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685800" y="4952880"/>
            <a:ext cx="1407960" cy="13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9528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2743200" y="3124080"/>
            <a:ext cx="1407960" cy="1395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1240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743200" y="4952880"/>
            <a:ext cx="1407960" cy="1395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43200" y="49528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3" name=""/>
          <p:cNvGrpSpPr/>
          <p:nvPr/>
        </p:nvGrpSpPr>
        <p:grpSpPr>
          <a:xfrm>
            <a:off x="228600" y="3809880"/>
            <a:ext cx="3048120" cy="2590920"/>
            <a:chOff x="228600" y="3809880"/>
            <a:chExt cx="3048120" cy="2590920"/>
          </a:xfrm>
        </p:grpSpPr>
        <p:sp>
          <p:nvSpPr>
            <p:cNvPr id="174" name=""/>
            <p:cNvSpPr/>
            <p:nvPr/>
          </p:nvSpPr>
          <p:spPr>
            <a:xfrm>
              <a:off x="228600" y="3809880"/>
              <a:ext cx="83808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556272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3809880"/>
              <a:ext cx="83844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2320" y="556272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means 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of 8 lemons is 2 lem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0320" y="3581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86200" y="3048120"/>
            <a:ext cx="2173320" cy="2935080"/>
            <a:chOff x="3886200" y="3048120"/>
            <a:chExt cx="2173320" cy="2935080"/>
          </a:xfrm>
        </p:grpSpPr>
        <p:graphicFrame>
          <p:nvGraphicFramePr>
            <p:cNvPr id="183" name=""/>
            <p:cNvGraphicFramePr/>
            <p:nvPr/>
          </p:nvGraphicFramePr>
          <p:xfrm>
            <a:off x="3886200" y="3048120"/>
            <a:ext cx="954000" cy="64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886200" y="3809880"/>
            <a:ext cx="954000" cy="6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3886200" y="4572000"/>
            <a:ext cx="954000" cy="6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3886200" y="5334120"/>
            <a:ext cx="954000" cy="64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105520" y="3048120"/>
            <a:ext cx="954000" cy="64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0552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105520" y="3809880"/>
            <a:ext cx="95400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0552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5105520" y="4572000"/>
            <a:ext cx="954000" cy="64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0552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5105520" y="5334120"/>
            <a:ext cx="954000" cy="649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0552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7238880" y="3733920"/>
            <a:ext cx="954360" cy="1411200"/>
            <a:chOff x="7238880" y="3733920"/>
            <a:chExt cx="954360" cy="1411200"/>
          </a:xfrm>
        </p:grpSpPr>
        <p:graphicFrame>
          <p:nvGraphicFramePr>
            <p:cNvPr id="200" name=""/>
            <p:cNvGraphicFramePr/>
            <p:nvPr/>
          </p:nvGraphicFramePr>
          <p:xfrm>
            <a:off x="7238880" y="3733920"/>
            <a:ext cx="954360" cy="649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38880" y="3733920"/>
                      <a:ext cx="95436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7238880" y="4495680"/>
            <a:ext cx="954360" cy="649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38880" y="4495680"/>
                      <a:ext cx="954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08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11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2362320"/>
            <a:ext cx="3048120" cy="53316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371600"/>
            <a:ext cx="6095880" cy="9907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5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parts out of 100 or 25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1371600"/>
          <a:ext cx="6095880" cy="5175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10 is 1/10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% also means 1/1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3505320"/>
            <a:ext cx="7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262480" y="2819520"/>
          <a:ext cx="388152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2819520"/>
                    <a:ext cx="388152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162920" y="2971800"/>
            <a:ext cx="152388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2514600"/>
            <a:ext cx="3429000" cy="3886200"/>
            <a:chOff x="457200" y="2514600"/>
            <a:chExt cx="3429000" cy="3886200"/>
          </a:xfrm>
        </p:grpSpPr>
        <p:sp>
          <p:nvSpPr>
            <p:cNvPr id="233" name=""/>
            <p:cNvSpPr/>
            <p:nvPr/>
          </p:nvSpPr>
          <p:spPr>
            <a:xfrm>
              <a:off x="457200" y="25146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440" y="25909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6280" y="350532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358128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360" y="449568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2600" y="457200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4440" y="54864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680" y="55627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2480" y="251460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09720" y="25909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71560" y="350532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358128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90640" y="449568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7880" y="457200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54864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6040" y="55627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25146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5000" y="2590920"/>
              <a:ext cx="62892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8120" y="358128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05000" y="3657600"/>
              <a:ext cx="62892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914400" y="2819520"/>
            <a:ext cx="3124080" cy="3657600"/>
            <a:chOff x="914400" y="2819520"/>
            <a:chExt cx="3124080" cy="3657600"/>
          </a:xfrm>
        </p:grpSpPr>
        <p:sp>
          <p:nvSpPr>
            <p:cNvPr id="254" name=""/>
            <p:cNvSpPr/>
            <p:nvPr/>
          </p:nvSpPr>
          <p:spPr>
            <a:xfrm>
              <a:off x="91440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720" y="472428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968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09680" y="480060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09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5320" y="281952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3809880"/>
              <a:ext cx="533160" cy="762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means 1/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of 10 ice creams is 1 ice 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9960" y="320040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352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%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200400" y="2895480"/>
            <a:ext cx="2624040" cy="2108160"/>
            <a:chOff x="3200400" y="2895480"/>
            <a:chExt cx="2624040" cy="2108160"/>
          </a:xfrm>
        </p:grpSpPr>
        <p:graphicFrame>
          <p:nvGraphicFramePr>
            <p:cNvPr id="269" name=""/>
            <p:cNvGraphicFramePr/>
            <p:nvPr/>
          </p:nvGraphicFramePr>
          <p:xfrm>
            <a:off x="3200400" y="2895480"/>
            <a:ext cx="490680" cy="88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3733920" y="2895480"/>
            <a:ext cx="490320" cy="88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4267080" y="2895480"/>
            <a:ext cx="490680" cy="88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4800600" y="2895480"/>
            <a:ext cx="490680" cy="88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5334120" y="2895480"/>
            <a:ext cx="490320" cy="889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41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3200400" y="4114800"/>
            <a:ext cx="490680" cy="88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3733920" y="4114800"/>
            <a:ext cx="490320" cy="88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4267080" y="4114800"/>
            <a:ext cx="490680" cy="888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4800600" y="4114800"/>
            <a:ext cx="490680" cy="888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006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5334120" y="4114800"/>
            <a:ext cx="490320" cy="888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9" name=""/>
          <p:cNvGraphicFramePr/>
          <p:nvPr/>
        </p:nvGraphicFramePr>
        <p:xfrm>
          <a:off x="7467480" y="3352680"/>
          <a:ext cx="490680" cy="88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67480" y="3352680"/>
                    <a:ext cx="490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1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95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98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93320" y="3352680"/>
              <a:ext cx="101880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748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3880" y="1371600"/>
            <a:ext cx="6096240" cy="5335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1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 parts out of 100 or 1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523880" y="137160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means “out of 100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41148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” comes from the Lat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ns 100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3048120"/>
          <a:ext cx="193356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193356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352680" y="2514600"/>
            <a:ext cx="5105520" cy="2971800"/>
          </a:xfrm>
          <a:prstGeom prst="wedgeRoundRectCallout">
            <a:avLst>
              <a:gd name="adj1" fmla="val -64800"/>
              <a:gd name="adj2" fmla="val 1255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2590920"/>
            <a:ext cx="48006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words have come from the root cent such as century, centimet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ipede, &amp; c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letter C in Roman Numer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nds for 100 or “cent”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3352680"/>
          <a:ext cx="200952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200952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9880" y="3581280"/>
            <a:ext cx="4343400" cy="1295640"/>
          </a:xfrm>
          <a:prstGeom prst="wedgeRoundRectCallout">
            <a:avLst>
              <a:gd name="adj1" fmla="val -79166"/>
              <a:gd name="adj2" fmla="val 3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581280"/>
            <a:ext cx="4233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C means th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 and Money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rite our change from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llar in hundredth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276720"/>
            <a:ext cx="4190760" cy="2209680"/>
          </a:xfrm>
          <a:prstGeom prst="wedgeRoundRectCallout">
            <a:avLst>
              <a:gd name="adj1" fmla="val -71402"/>
              <a:gd name="adj2" fmla="val -646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4233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underst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, learn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s is a breez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CRTA1127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328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50 is ½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0% also means 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1349280" cy="140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1349280" cy="140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4864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73392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7280" y="38098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14800" y="3352680"/>
          <a:ext cx="3881520" cy="28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388152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172200" y="32767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means 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of 6 stars is 3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373392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91120" y="3200400"/>
            <a:ext cx="1676160" cy="2666880"/>
            <a:chOff x="4191120" y="3200400"/>
            <a:chExt cx="1676160" cy="2666880"/>
          </a:xfrm>
        </p:grpSpPr>
        <p:sp>
          <p:nvSpPr>
            <p:cNvPr id="126" name=""/>
            <p:cNvSpPr/>
            <p:nvPr/>
          </p:nvSpPr>
          <p:spPr>
            <a:xfrm>
              <a:off x="419112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320040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419112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181480"/>
              <a:ext cx="609480" cy="6098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3200400"/>
            <a:ext cx="609480" cy="2666880"/>
            <a:chOff x="7086600" y="3200400"/>
            <a:chExt cx="609480" cy="2666880"/>
          </a:xfrm>
        </p:grpSpPr>
        <p:sp>
          <p:nvSpPr>
            <p:cNvPr id="133" name=""/>
            <p:cNvSpPr/>
            <p:nvPr/>
          </p:nvSpPr>
          <p:spPr>
            <a:xfrm>
              <a:off x="708660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41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44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1295280"/>
            <a:ext cx="6096240" cy="25909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5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 parts out of 100 or 5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2084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Doug</cp:lastModifiedBy>
  <dcterms:modified xsi:type="dcterms:W3CDTF">2003-06-24T03:11:23Z</dcterms:modified>
  <cp:revision>22</cp:revision>
  <dc:subject/>
  <dc:title>Percent</dc:title>
</cp:coreProperties>
</file>